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BCC-B6DC-4703-B661-C3552833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C37-185A-49FE-8FE7-68A2377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316-952D-41E8-9498-C6ABFF28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932-1F21-4875-B0B9-9E6F7D4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946-564F-4CB6-A64B-7575196F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68D-8629-49A3-B300-C321765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C86-1846-4D1A-AE0E-2A5B0615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1D9-5F32-4931-8153-FB28191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4FB-DA7A-4413-ABFF-C4FB22D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2DE-931D-4746-AE3C-53C9C40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D72-8A4A-4754-8766-5E238B0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9F5-59CD-4F0D-BAA4-BE5D329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EB9E-1F52-4064-9140-51DC747FB1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484280"/>
            <a:ext cx="756144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listopadzie 1918 roku w Poznaniu, składała się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z polskich działaczy politycznych skupionych wcześniej przy działającym od 1916 roku w warunkach konspiracji Centralnym Komitecie Obywate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sariatu NRL weszli m.in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: Wojciech Korfant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ks. Stanisław Adamski oraz Józef Rymar , a jej reprezentantem przy Komitecie Narodowym Polski w Paryżu był Władysław Grabs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NRL było ewolucyjne i pokojowe przejęcie władzy na terenie Wielkopolski .Po wybuchu powstania przejęła faktyczną władzę na jej ter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ziałała do końca sierpnia 1919 roku by, następnie przekazać swoje kompetencje władzom centralnym w Warsza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3:57Z</dcterms:created>
  <dc:creator>rena</dc:creator>
  <dc:description/>
  <dc:language>en-US</dc:language>
  <cp:lastModifiedBy>IB</cp:lastModifiedBy>
  <dcterms:modified xsi:type="dcterms:W3CDTF">2013-03-14T17:22:33Z</dcterms:modified>
  <cp:revision>5</cp:revision>
  <dc:subject/>
  <dc:title>PowerPoint Presentation</dc:title>
</cp:coreProperties>
</file>